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DCC-03AC-4197-9606-3939C7F6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7B67-E068-4202-8F03-4B99E55C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90BD-55D4-4254-BCE4-3A64F87A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07E-65AD-4D6E-99DE-D1194010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E69-0E3A-48C4-9D2E-005E38D5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F72-8B3A-4EBB-856C-D2A8E053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354A-EED2-4C5B-9B64-B61087A3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099F-DA30-4D7D-87F6-9FA528D6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A8F-393D-4F00-9727-D4011EA0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B074-C7F6-4B25-8A76-10FB8438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154-6DC6-4365-BD0E-6FAEDA1F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06A-9044-4996-8063-23CF743C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879F-8BCB-4EBB-B615-FA392A05B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undhei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gang Sachd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uchen ist nicht gut fur deine Gesundheit.  Du musst gesund blei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photo07"/>
          <p:cNvPicPr/>
          <p:nvPr/>
        </p:nvPicPr>
        <p:blipFill>
          <a:blip r:embed="rId1"/>
          <a:stretch/>
        </p:blipFill>
        <p:spPr>
          <a:xfrm>
            <a:off x="2666880" y="1828800"/>
            <a:ext cx="39718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finde es prima dass du Lauft jeden Ta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01_Usain-Bolt"/>
          <p:cNvPicPr/>
          <p:nvPr/>
        </p:nvPicPr>
        <p:blipFill>
          <a:blip r:embed="rId1"/>
          <a:stretch/>
        </p:blipFill>
        <p:spPr>
          <a:xfrm>
            <a:off x="533520" y="1655640"/>
            <a:ext cx="8001000" cy="4440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981080" y="62485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981080" y="62485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ist Wolfga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esse viel Obst und Gemüse fur mein Gesund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00406162941-large.jpg"/>
          <p:cNvPicPr/>
          <p:nvPr/>
        </p:nvPicPr>
        <p:blipFill>
          <a:blip r:embed="rId1"/>
          <a:stretch/>
        </p:blipFill>
        <p:spPr>
          <a:xfrm>
            <a:off x="1371600" y="1828800"/>
            <a:ext cx="632448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schlafe für 7 Stunden Jeden T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3" descr="th__Baby_Pillow.jpg"/>
          <p:cNvPicPr/>
          <p:nvPr/>
        </p:nvPicPr>
        <p:blipFill>
          <a:blip r:embed="rId1"/>
          <a:stretch/>
        </p:blipFill>
        <p:spPr>
          <a:xfrm>
            <a:off x="1806480" y="1874880"/>
            <a:ext cx="55087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Gymnastiks machen jeden Ta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3" descr="Stretches-Images.jpg"/>
          <p:cNvPicPr/>
          <p:nvPr/>
        </p:nvPicPr>
        <p:blipFill>
          <a:blip r:embed="rId1"/>
          <a:stretch/>
        </p:blipFill>
        <p:spPr>
          <a:xfrm>
            <a:off x="1425600" y="1947960"/>
            <a:ext cx="60418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kann manchmal Shokolade e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ch kann nicht entspannen, weil ich sehr beschäftigt b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8:23:48Z</dcterms:created>
  <dc:creator>CUSD220</dc:creator>
  <dc:description/>
  <dc:language>en-US</dc:language>
  <cp:lastModifiedBy> </cp:lastModifiedBy>
  <dcterms:modified xsi:type="dcterms:W3CDTF">2012-03-01T03:19:36Z</dcterms:modified>
  <cp:revision>6</cp:revision>
  <dc:subject/>
  <dc:title>Gesundheit!!</dc:title>
</cp:coreProperties>
</file>